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1A5-E424-4A3A-AD3A-24EE9D34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445-83A8-4E82-BE09-A3DF8422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348B6-5EEB-44EE-9AF9-42A16FE5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C9953-AD89-497D-AB70-8C72EFBB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FFD10-C500-4D2C-BFF6-C77E84A3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75099-74A6-4ED1-A99D-91F850D2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F4780-B296-483D-B550-A72A1CF1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D3F5C-C485-4E24-98FE-5C19563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2B97E-427E-4380-9896-CB5E418E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59B53-5C62-4B24-8587-6728DC5E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32A4F-0FED-496F-9244-DE40FD25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D9A-1F3A-4711-8879-3FD1018F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712-92A5-400A-BD47-09344804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236-61E7-4D6D-A026-4D0151A8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386-5765-47BF-990A-5E899D7F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5BC36-37FB-4216-B270-B02FFC5B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6556E-857A-4183-819B-72D4184A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C768E-809C-42EA-9A6E-38E8D654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FAF-5E39-41DB-A7EE-234FDE5E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C72C9-080B-451C-91D1-23A1B90F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A5213-586D-4E38-BA74-167F7227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149DC-AF54-440C-8413-76015FC4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46EE5-4AA6-40EA-8377-38431A46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3341C-FCD7-4341-A50E-C9D16F9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34131-8382-4783-B467-EE5C2B5A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A27B1-BCFF-4D8E-B03B-566CB4E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FFD11-26EA-4DB8-ABC5-A167ED88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1C896-FC2B-4B78-97B6-0805D273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067E5-E4A3-4BAC-BFBC-610EC948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583-1A20-44C3-9633-F59BC350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E3EB74-7D95-40AD-86CD-A6309D37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88E78-4D7B-4301-9EFF-45FC2CCE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0DB3D2-1678-4FDB-BF0B-6074B126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7CAB2E-6CE9-4804-95EC-88172892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22BF7-4D0D-479C-AB97-5F0AAEEF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04739D-159B-4516-9DA6-D457F72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59566D-D43B-4E9E-AF67-7292547C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7543EA-20F2-4BD3-B0D9-5E3B049B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233FF2-8B6C-4884-A33E-B32ADA1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6A9FB-4458-486F-993D-143CDE13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9EB-3B70-41D9-AEEA-BFB947E5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E7F1A3-227E-4ACE-818B-4A919BA6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E4271-770C-469B-BA59-8887F453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1C193-BDC1-4788-A85A-7FB4EFD3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D7198D-6300-4ADC-89BE-12326F8F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289244-665F-4A9F-B4A9-2089DEDF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11542F-BC18-4472-A3F7-C164AB33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7B76A2-DE64-4274-8BD2-F558C5ED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475D91-5146-485B-8DFD-C3C5C60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079557-17F8-4D3A-9EAF-B0C23DBB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15A5D-927F-424D-8917-178B2F27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7FA-3CE4-489D-8226-B04F074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4E0912-767A-4C3C-876E-D65A26CC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0B68DD-1E34-45FE-A0A2-04B57276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E674E0-AEBF-474F-9677-5F159305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9522C8-DF1A-48D8-B294-BE431F3C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A5D929-01F6-4FD2-B960-6B85C348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8D77EF-A48A-45DA-AEF7-CC1ACD28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67A398-E3C9-45FD-A898-A9FA69A5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63E6F5-EB9B-45A4-B453-45793634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BFCE8-EDF9-421B-A479-B17B48C0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9A5459-948B-49B0-AD16-D171685C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160-3366-4A87-B1F1-C4FDDF8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F034BD-6BD6-4DF8-899E-858B3A7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977703-57DE-402B-88C1-A3637717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A81B5E-5D65-4167-B54F-AD9BF94E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4779F-3585-4022-A6B8-77FFF051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40432-7A55-42D9-A656-46643CCB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775253-1718-44D6-B2FE-4CDCD6F4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3601E-CC70-425F-A6E9-C2C1D477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D1188A-540C-4834-9867-AFF2D67F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59BB6D-F8F5-424F-AB53-F79D4E45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900939-601F-4576-B090-92C65F2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48E-80EB-4903-A8B7-037A31D0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8C0E6-181F-4DE9-BC17-BD8E059B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36497A-7885-4823-BD61-764C3389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0511F8-4E37-4E5A-BE21-AB95B90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8E9839-DA44-49CF-ADD5-64346337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434C19-73EB-4583-9C96-021CC40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F2FF66-DB11-4EE0-B867-C2078A11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AD4C00-BE46-45BE-98D4-DAC4B73E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41B35-E696-429E-80A4-3C40247D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36351-7B67-4E1D-A0C5-48CDFD83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65E70-B2D3-4FA3-8189-C1EF1C33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9E7A8-58F8-4999-B566-3C104D98159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9C392-2A5B-481F-993D-452D2638EB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97232-8B86-4283-B20A-C49B7CEA000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E213F-E447-40C6-AE9C-FCB5CC712B3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BEC21-79A8-4DEB-8DC1-7515942BE61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BCA3F-56EF-4E1A-A487-C3160FD2EF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C8122-6149-4F76-8856-729CC1BF4B7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9A783-FE91-4D6E-AC28-BFC80071ED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93AF0-7C43-4253-BD08-FB26D9C2988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DAD1D-8652-4E33-8960-1EDF1775B46B}" type="slidenum">
              <a:rPr b="0" lang="en-US" sz="1200" spc="-1" strike="noStrike">
                <a:solidFill>
                  <a:srgbClr val="19443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19EE8-3449-4872-AA0C-E3FFFFD6710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55305-3343-43E0-86BA-13A48E850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00888-C858-4334-84CB-38BBF5A780E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AFEB4-4AB3-49A5-B5D9-04F43F5FD038}" type="slidenum">
              <a:rPr b="0" lang="en-US" sz="1200" spc="-1" strike="noStrike">
                <a:solidFill>
                  <a:srgbClr val="19443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F4366-AFB9-4C8B-9144-1D3F99AF3C3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FB4DA-0C4C-4B68-A259-A04AB97B21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WHICH TYPE OF AGRICULTURE?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880" y="3276360"/>
            <a:ext cx="33530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USTR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181120" y="32763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TAIN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21:56:38Z</dcterms:created>
  <dc:creator>Keith or Sherri Holmgren</dc:creator>
  <dc:description/>
  <dc:language>en-US</dc:language>
  <cp:lastModifiedBy>Keith or Sherri Holmgren</cp:lastModifiedBy>
  <dcterms:modified xsi:type="dcterms:W3CDTF">2010-11-02T22:01:00Z</dcterms:modified>
  <cp:revision>1</cp:revision>
  <dc:subject/>
  <dc:title>WHICH TYPE OF AGRICULTURE?</dc:title>
</cp:coreProperties>
</file>